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396001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840-5610-46AC-89BF-A321CC9A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291607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9280" y="22889880"/>
            <a:ext cx="291607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FFB-3DB9-41F1-8B05-8231999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92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10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021-04AA-4274-9C8D-52464A63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8600" y="923904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37920" y="923904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9280" y="2288988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8600" y="2288988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37920" y="2288988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224-FBA7-4CB4-AEE4-FCFC2759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9280" y="9239040"/>
            <a:ext cx="29160720" cy="261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26"/>
              </a:spcBef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D0C-42B6-471F-8DBC-A7862D8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2916072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E31-F550-4528-B6D5-17402BD0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777-4631-41CE-850C-322B2CE3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670-A534-4D27-9EFC-3337B334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1584360"/>
            <a:ext cx="2916072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26"/>
              </a:spcBef>
              <a:tabLst>
                <a:tab algn="l" pos="0"/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610-04E9-4C2B-86B2-90D8BFC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92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772-5BA2-4670-9803-A241B095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10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3B7-82F2-4E2A-B167-5B1D3B41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280" y="22889880"/>
            <a:ext cx="291607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CB1-9520-4D66-8DB4-160D968B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9280" y="9239040"/>
            <a:ext cx="2916072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marL="1519200" indent="-1519200">
              <a:spcBef>
                <a:spcPts val="3526"/>
              </a:spcBef>
              <a:buClr>
                <a:srgbClr val="000000"/>
              </a:buClr>
              <a:buFont typeface="Arial"/>
              <a:buChar char="•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1" marL="3294000" indent="-1266840">
              <a:spcBef>
                <a:spcPts val="3526"/>
              </a:spcBef>
              <a:buClr>
                <a:srgbClr val="000000"/>
              </a:buClr>
              <a:buFont typeface="Arial"/>
              <a:buChar char="–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2" marL="5068800" indent="-1011240">
              <a:spcBef>
                <a:spcPts val="3526"/>
              </a:spcBef>
              <a:buClr>
                <a:srgbClr val="000000"/>
              </a:buClr>
              <a:buFont typeface="Arial"/>
              <a:buChar char="•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3" marL="7097760" indent="-1011240">
              <a:spcBef>
                <a:spcPts val="3526"/>
              </a:spcBef>
              <a:buClr>
                <a:srgbClr val="000000"/>
              </a:buClr>
              <a:buFont typeface="Arial"/>
              <a:buChar char="–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4" marL="9124920" indent="-1011240">
              <a:spcBef>
                <a:spcPts val="3526"/>
              </a:spcBef>
              <a:buClr>
                <a:srgbClr val="000000"/>
              </a:buClr>
              <a:buFont typeface="Arial"/>
              <a:buChar char="»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5" marL="9124920" indent="-1011240">
              <a:spcBef>
                <a:spcPts val="3526"/>
              </a:spcBef>
              <a:buClr>
                <a:srgbClr val="000000"/>
              </a:buClr>
              <a:buFont typeface="Arial"/>
              <a:buChar char="»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6" marL="9124920" indent="-1011240">
              <a:spcBef>
                <a:spcPts val="3526"/>
              </a:spcBef>
              <a:buClr>
                <a:srgbClr val="000000"/>
              </a:buClr>
              <a:buFont typeface="Arial"/>
              <a:buChar char="»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8920" y="36063000"/>
            <a:ext cx="7561080" cy="2747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8200" y="36063000"/>
            <a:ext cx="10262880" cy="2747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0000" y="36063000"/>
            <a:ext cx="7559640" cy="2747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7973-24F6-4708-BF54-15CE01B82A0A}" type="slidenum">
              <a:rPr b="0" lang="en-US" sz="6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0"/>
            <a:ext cx="32399280" cy="399668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702320"/>
                <a:tab algn="l" pos="940428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Rectangle 4"/>
          <p:cNvGrpSpPr/>
          <p:nvPr/>
        </p:nvGrpSpPr>
        <p:grpSpPr>
          <a:xfrm>
            <a:off x="1030320" y="3614760"/>
            <a:ext cx="30480120" cy="4883040"/>
            <a:chOff x="1030320" y="3614760"/>
            <a:chExt cx="30480120" cy="4883040"/>
          </a:xfrm>
        </p:grpSpPr>
        <p:pic>
          <p:nvPicPr>
            <p:cNvPr id="43" name="Rectangle 4" descr=""/>
            <p:cNvPicPr/>
            <p:nvPr/>
          </p:nvPicPr>
          <p:blipFill>
            <a:blip r:embed="rId1"/>
            <a:stretch/>
          </p:blipFill>
          <p:spPr>
            <a:xfrm>
              <a:off x="1030320" y="3614760"/>
              <a:ext cx="3048012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82520" y="3648240"/>
              <a:ext cx="30373920" cy="47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440" rIns="11844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57560"/>
                  <a:tab algn="l" pos="8115480"/>
                </a:tabLst>
              </a:pPr>
              <a:r>
                <a:rPr b="1" lang="en-US" sz="8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Your Poster Title Goes Here</a:t>
              </a:r>
              <a:endParaRPr b="0" lang="en-US" sz="8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57560"/>
                  <a:tab algn="l" pos="811548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name here, and names of other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57560"/>
                  <a:tab algn="l" pos="811548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 the name of your institution he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5"/>
          <p:cNvSpPr/>
          <p:nvPr/>
        </p:nvSpPr>
        <p:spPr>
          <a:xfrm>
            <a:off x="1033560" y="9097920"/>
            <a:ext cx="905184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201680" y="11256840"/>
            <a:ext cx="7893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zh-CN" sz="2900" spc="-1" strike="noStrike">
                <a:solidFill>
                  <a:srgbClr val="ff0000"/>
                </a:solidFill>
                <a:latin typeface="Arial"/>
                <a:ea typeface="宋体"/>
              </a:rPr>
              <a:t>模板中各板块内容替换为作者自己研究论文的相关内容即可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32080" y="17010000"/>
            <a:ext cx="8254800" cy="1714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2786920" y="23171040"/>
            <a:ext cx="8653680" cy="1714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514520" y="21045600"/>
            <a:ext cx="8150040" cy="49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734720" y="25703280"/>
            <a:ext cx="872172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own information here. Remember, you can change the template colors to suit your own tas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0417320" y="9097920"/>
            <a:ext cx="1192032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Methods &amp;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0417320" y="29768760"/>
            <a:ext cx="11920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1432080" y="27074880"/>
            <a:ext cx="8653320" cy="17110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720800" y="29543400"/>
            <a:ext cx="8150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22725000" y="9097920"/>
            <a:ext cx="865368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2723560" y="11315880"/>
            <a:ext cx="8337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the template is only to get you started, and can be changed to suit your unique nee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22725000" y="16898760"/>
            <a:ext cx="865368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2783680" y="19296000"/>
            <a:ext cx="83394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the template is only to get you started, and can be changed to suit your unique nee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2786920" y="31283280"/>
            <a:ext cx="8653680" cy="1714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22968000" y="33607440"/>
            <a:ext cx="8337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own information here. Remember, you can change the template colors to suit your own tas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0607760" y="27122400"/>
            <a:ext cx="11706120" cy="1714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10085400" y="11522160"/>
            <a:ext cx="12650760" cy="14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5427160" y="1325520"/>
            <a:ext cx="324936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11600" spc="-1" strike="noStrike">
                <a:solidFill>
                  <a:srgbClr val="008000"/>
                </a:solidFill>
                <a:latin typeface="Impact"/>
                <a:ea typeface="宋体"/>
              </a:rPr>
              <a:t>1001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2"/>
          <a:stretch/>
        </p:blipFill>
        <p:spPr>
          <a:xfrm>
            <a:off x="1092240" y="1608120"/>
            <a:ext cx="94057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0:20:00Z</dcterms:created>
  <dc:creator>Cindy Kranz</dc:creator>
  <dc:description>1-800-347-2477</dc:description>
  <dc:language>en-US</dc:language>
  <cp:lastModifiedBy>学会英文刊1</cp:lastModifiedBy>
  <cp:lastPrinted>2019-09-19T04:15:51Z</cp:lastPrinted>
  <dcterms:modified xsi:type="dcterms:W3CDTF">2022-09-29T08:20:04Z</dcterms:modified>
  <cp:revision>32</cp:revision>
  <dc:subject/>
  <dc:title>Style M 42 by 42</dc:title>
</cp:coreProperties>
</file>