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399288" cy="396001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E68A-63FF-41A1-B7BC-0C4128F9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291607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19280" y="22889880"/>
            <a:ext cx="291607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AE9-907C-40B2-85A6-3ED69EFC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10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19280" y="2288988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1080" y="2288988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C56-9478-4A9C-8C0C-8168F9F4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78600" y="923904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37920" y="923904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19280" y="2288988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78600" y="2288988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37920" y="22889880"/>
            <a:ext cx="93895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88E-6B11-4061-A7BC-2A720259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19280" y="9239040"/>
            <a:ext cx="29160720" cy="261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26"/>
              </a:spcBef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5E1-9E20-4C96-AAE5-032A2700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2916072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D72-2A00-4351-B3B7-6F33A6CE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1423008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1080" y="9239040"/>
            <a:ext cx="1423008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592-D4F0-432E-A1BD-4E199B7C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318-08BD-4D89-B899-A270FBBE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19280" y="1584360"/>
            <a:ext cx="2916072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26"/>
              </a:spcBef>
              <a:tabLst>
                <a:tab algn="l" pos="0"/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C31-BB33-4592-8D24-769064BF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1080" y="9239040"/>
            <a:ext cx="1423008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19280" y="2288988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7D6-0047-4100-A320-0D7858EC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1423008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10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1080" y="2288988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8B7-BC89-4151-91F9-D11098D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192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1080" y="9239040"/>
            <a:ext cx="1423008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19280" y="22889880"/>
            <a:ext cx="29160720" cy="124660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indent="0">
              <a:spcBef>
                <a:spcPts val="3526"/>
              </a:spcBef>
              <a:buNone/>
              <a:tabLst>
                <a:tab algn="l" pos="4054320"/>
                <a:tab algn="l" pos="8109000"/>
              </a:tabLst>
            </a:pP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910-E2E3-4A82-AE57-FB22798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1584360"/>
            <a:ext cx="29160720" cy="660096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ctr">
            <a:noAutofit/>
          </a:bodyPr>
          <a:p>
            <a:pPr indent="0" algn="ctr">
              <a:buNone/>
              <a:tabLst>
                <a:tab algn="l" pos="0"/>
                <a:tab algn="l" pos="4054320"/>
                <a:tab algn="l" pos="8109000"/>
              </a:tabLst>
            </a:pPr>
            <a:r>
              <a:rPr b="0" lang="en-US" sz="19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9280" y="9239040"/>
            <a:ext cx="29160720" cy="2613492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rmAutofit/>
          </a:bodyPr>
          <a:p>
            <a:pPr marL="1519200" indent="-1519200">
              <a:spcBef>
                <a:spcPts val="3526"/>
              </a:spcBef>
              <a:buClr>
                <a:srgbClr val="000000"/>
              </a:buClr>
              <a:buFont typeface="Arial"/>
              <a:buChar char="•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1" marL="3294000" indent="-1266840">
              <a:spcBef>
                <a:spcPts val="3526"/>
              </a:spcBef>
              <a:buClr>
                <a:srgbClr val="000000"/>
              </a:buClr>
              <a:buFont typeface="Arial"/>
              <a:buChar char="–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2" marL="5068800" indent="-1011240">
              <a:spcBef>
                <a:spcPts val="3526"/>
              </a:spcBef>
              <a:buClr>
                <a:srgbClr val="000000"/>
              </a:buClr>
              <a:buFont typeface="Arial"/>
              <a:buChar char="•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3" marL="7097760" indent="-1011240">
              <a:spcBef>
                <a:spcPts val="3526"/>
              </a:spcBef>
              <a:buClr>
                <a:srgbClr val="000000"/>
              </a:buClr>
              <a:buFont typeface="Arial"/>
              <a:buChar char="–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4" marL="9124920" indent="-1011240">
              <a:spcBef>
                <a:spcPts val="3526"/>
              </a:spcBef>
              <a:buClr>
                <a:srgbClr val="000000"/>
              </a:buClr>
              <a:buFont typeface="Arial"/>
              <a:buChar char="»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5" marL="9124920" indent="-1011240">
              <a:spcBef>
                <a:spcPts val="3526"/>
              </a:spcBef>
              <a:buClr>
                <a:srgbClr val="000000"/>
              </a:buClr>
              <a:buFont typeface="Arial"/>
              <a:buChar char="»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  <a:p>
            <a:pPr lvl="6" marL="9124920" indent="-1011240">
              <a:spcBef>
                <a:spcPts val="3526"/>
              </a:spcBef>
              <a:buClr>
                <a:srgbClr val="000000"/>
              </a:buClr>
              <a:buFont typeface="Arial"/>
              <a:buChar char="»"/>
              <a:tabLst>
                <a:tab algn="l" pos="4054320"/>
                <a:tab algn="l" pos="810900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18920" y="36063000"/>
            <a:ext cx="7561080" cy="27478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68200" y="36063000"/>
            <a:ext cx="10262880" cy="27478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0000" y="36063000"/>
            <a:ext cx="7559640" cy="2747880"/>
          </a:xfrm>
          <a:prstGeom prst="rect">
            <a:avLst/>
          </a:prstGeom>
          <a:noFill/>
          <a:ln w="0">
            <a:noFill/>
          </a:ln>
        </p:spPr>
        <p:txBody>
          <a:bodyPr lIns="470160" rIns="470160" tIns="235080" bIns="235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EBD9-C940-453A-AAAF-A777121DE01E}" type="slidenum">
              <a:rPr b="0" lang="en-US" sz="6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32399280" cy="3960036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8f8f8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702320"/>
                <a:tab algn="l" pos="940428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Rectangle 4"/>
          <p:cNvGrpSpPr/>
          <p:nvPr/>
        </p:nvGrpSpPr>
        <p:grpSpPr>
          <a:xfrm>
            <a:off x="1030320" y="3614760"/>
            <a:ext cx="30480120" cy="4883040"/>
            <a:chOff x="1030320" y="3614760"/>
            <a:chExt cx="30480120" cy="4883040"/>
          </a:xfrm>
        </p:grpSpPr>
        <p:pic>
          <p:nvPicPr>
            <p:cNvPr id="43" name="Rectangle 4" descr=""/>
            <p:cNvPicPr/>
            <p:nvPr/>
          </p:nvPicPr>
          <p:blipFill>
            <a:blip r:embed="rId1"/>
            <a:stretch/>
          </p:blipFill>
          <p:spPr>
            <a:xfrm>
              <a:off x="1030320" y="3614760"/>
              <a:ext cx="30480120" cy="48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082520" y="3648240"/>
              <a:ext cx="30373920" cy="47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8440" rIns="11844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57560"/>
                  <a:tab algn="l" pos="8115480"/>
                </a:tabLst>
              </a:pPr>
              <a:r>
                <a:rPr b="1" lang="zh-CN" sz="8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论文题目</a:t>
              </a:r>
              <a:r>
                <a:rPr b="1" lang="en-US" sz="8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XXXXXXXXXXXXXX</a:t>
              </a:r>
              <a:endParaRPr b="0" lang="en-US" sz="8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57560"/>
                  <a:tab algn="l" pos="8115480"/>
                </a:tabLst>
              </a:pPr>
              <a:r>
                <a:rPr b="1" i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作者中文姓名 </a:t>
              </a: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XX, 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057560"/>
                  <a:tab algn="l" pos="8115480"/>
                </a:tabLst>
              </a:pPr>
              <a:r>
                <a:rPr b="1" i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作者中文单位 </a:t>
              </a: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XXXXX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5"/>
          <p:cNvSpPr/>
          <p:nvPr/>
        </p:nvSpPr>
        <p:spPr>
          <a:xfrm>
            <a:off x="1033560" y="9097920"/>
            <a:ext cx="9051840" cy="17161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摘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201680" y="11256840"/>
            <a:ext cx="7893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040" bIns="5904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you can change your font size to fit your data. In general, the larger your font, the easier it is for others to re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zh-CN" sz="2900" spc="-1" strike="noStrike">
                <a:solidFill>
                  <a:srgbClr val="ff0000"/>
                </a:solidFill>
                <a:latin typeface="Arial"/>
                <a:ea typeface="宋体"/>
              </a:rPr>
              <a:t>模板中各板块内容替换为作者自己研究论文的相关内容即可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432080" y="17010000"/>
            <a:ext cx="8254800" cy="17146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研究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2786920" y="23171040"/>
            <a:ext cx="8653680" cy="17146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重要参考文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1514520" y="21045600"/>
            <a:ext cx="8150040" cy="49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040" bIns="5904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you can change your font size to fit your data. In general, the larger your font, the easier it is for others to re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734720" y="25703280"/>
            <a:ext cx="872172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040" bIns="5904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own information here. Remember, you can change the template colors to suit your own tas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0417320" y="9097920"/>
            <a:ext cx="11920320" cy="17161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研究方法与模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0417320" y="29768760"/>
            <a:ext cx="1192032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you can change your font size to fit your data. In general, the larger your font, the easier it is for others to re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1432080" y="27074880"/>
            <a:ext cx="8653320" cy="17110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研究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1720800" y="29543400"/>
            <a:ext cx="81504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you can change your font size to fit your data. In general, the larger your font, the easier it is for others to rea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22725000" y="9097920"/>
            <a:ext cx="8653680" cy="17161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22723560" y="11315880"/>
            <a:ext cx="8337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the template is only to get you started, and can be changed to suit your unique nee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22725000" y="16898760"/>
            <a:ext cx="8653680" cy="17161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结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22783680" y="19296000"/>
            <a:ext cx="83394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the template is only to get you started, and can be changed to suit your unique nee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22786920" y="31283280"/>
            <a:ext cx="8653680" cy="171432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致谢及基金项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22968000" y="33607440"/>
            <a:ext cx="8337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own information here. Remember, you can change the template colors to suit your own tas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0607760" y="27122400"/>
            <a:ext cx="11706120" cy="17146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8440" rIns="118440" tIns="59040" bIns="59040" anchor="ctr">
            <a:noAutofit/>
          </a:bodyPr>
          <a:p>
            <a:pPr algn="ctr">
              <a:tabLst>
                <a:tab algn="l" pos="0"/>
                <a:tab algn="l" pos="4703760"/>
                <a:tab algn="l" pos="940752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研究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10085400" y="11522160"/>
            <a:ext cx="12650760" cy="14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03760"/>
                <a:tab algn="l" pos="9407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Insert your text here. Remember, you can change your font size to fit your data. In general, the larger your font, the easier it is for others to rea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03760"/>
                <a:tab algn="l" pos="940752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5328520" y="1219320"/>
            <a:ext cx="32497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440" rIns="118440" tIns="59040" bIns="59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11600" spc="-1" strike="noStrike">
                <a:solidFill>
                  <a:srgbClr val="008000"/>
                </a:solidFill>
                <a:latin typeface="Impact"/>
                <a:ea typeface="宋体"/>
              </a:rPr>
              <a:t>1001</a:t>
            </a:r>
            <a:endParaRPr b="0" lang="en-US" sz="1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22" descr=""/>
          <p:cNvPicPr/>
          <p:nvPr/>
        </p:nvPicPr>
        <p:blipFill>
          <a:blip r:embed="rId2"/>
          <a:stretch/>
        </p:blipFill>
        <p:spPr>
          <a:xfrm>
            <a:off x="1092240" y="1467000"/>
            <a:ext cx="10439280" cy="14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20:20:00Z</dcterms:created>
  <dc:creator>Cindy Kranz</dc:creator>
  <dc:description>1-800-347-2477</dc:description>
  <dc:language>en-US</dc:language>
  <cp:lastModifiedBy>学会英文刊1</cp:lastModifiedBy>
  <cp:lastPrinted>2019-09-19T04:15:51Z</cp:lastPrinted>
  <dcterms:modified xsi:type="dcterms:W3CDTF">2022-09-29T08:19:41Z</dcterms:modified>
  <cp:revision>31</cp:revision>
  <dc:subject/>
  <dc:title>Style M 42 by 42</dc:title>
</cp:coreProperties>
</file>